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9DE-1011-4FB2-8DC8-E4F225E4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5E4-BCA3-4BC2-B7C9-1A4C07D5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1CF-78E1-431E-A387-B1410D85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F05-0AD6-4A31-BDB0-329FEF16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D2C-36EF-40D8-A820-B0AE625C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D1B-50DE-4473-B9E9-9A73571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B7E-B533-4C00-8108-030DF22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8FD-C1EA-490B-A817-E3575DB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7EA-878D-4DF3-A566-2D9D76C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864-D74D-40FE-AB51-C91F146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3AF-1E02-43BC-9635-704E078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67E-5CAE-4536-A8E9-F26F11E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AC3-0F9F-4728-8522-77675D53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gender colors better then the oth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Keena Schwe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144756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2408040" cy="192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494800">
            <a:off x="457200" y="4191120"/>
            <a:ext cx="183528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627000">
            <a:off x="5333760" y="3049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ffect does gender have on your coloring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30319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icked this because I wanted to see who colors better than the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4290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ackground Inf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ogled my question and found a coloring contest at a school and they were K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.  They were very good pictures.  I also saw that they were mostly boys in first, second, and third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358164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ypothesi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dict that the girls will color better than the boys will.   But the boys will have a good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572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pictures that a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duplicate 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4191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will test one boy then a girl and keep going until I am done.  Then I will compare the winners of the two gen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251460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590920"/>
            <a:ext cx="14475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as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l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a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266688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contestants where judged by neatness, creativity, color, and line quality.  They where judge by Mrs. Calderwood.  These are the places or rankings that they rece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04:55Z</dcterms:created>
  <dc:creator>USD376</dc:creator>
  <dc:description/>
  <dc:language>en-US</dc:language>
  <cp:lastModifiedBy>STERLING  USD376</cp:lastModifiedBy>
  <dcterms:modified xsi:type="dcterms:W3CDTF">2011-03-08T15:01:39Z</dcterms:modified>
  <cp:revision>13</cp:revision>
  <dc:subject/>
  <dc:title>Slide 1</dc:title>
</cp:coreProperties>
</file>